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CF4C-FEB7-4794-BB5D-F3F4D3598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3630-C430-4F0A-8D41-3BB5FABAA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AEE1-0F61-429D-8014-A520A5E3A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F079-06F9-4312-8EA3-AE2D2558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8772-67C0-4216-AEB3-0C16E9F75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EAE1-187B-445B-9655-9E165E26B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2A75-E752-49D8-B18A-A3F6C0E3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9801-2A6A-4FD1-A017-A7C8784A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CB22-CECD-4632-A96C-4C9CEEE4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A696-BB36-40C9-8D1C-B4490336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2F57-FF06-4AF1-99E6-05B986F2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DC15-9B32-4BE7-A710-E8B830FB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8AE6-73BD-4E47-A5BB-8AC232E4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71E7-BCCA-47B7-8697-0404F179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0E9E-E157-4590-9319-9AC27D03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E565-3CA6-45D7-91F7-BC9C9D17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6AE4-9B1E-4F1A-8AEA-6FD466E1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AB24-5960-4453-977D-15D7BF901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09F6-B80A-4697-A41C-F3696CED4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AEE8-576C-46F3-B899-7C172891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EFFA-C146-448C-8A13-25DDBBCD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A47D-399A-4D3E-8B40-0A9B2748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8133-13A4-49B0-A070-4849A274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2EA0-0BDF-41F2-9A6E-9685EAFF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E8AE-8E14-4261-902F-51BDBF48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B07C-7E04-4D3B-8EC8-5E7D6F24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4684-7FFD-4B13-BE43-DEF2EB875A1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7EE2-8094-4C06-87E5-5BA5011D095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assroom Procedur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Gothic"/>
              </a:rPr>
              <a:t>Passes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You are allowed three passes out of my room each six week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ny student who does not leave the classroom for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ny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ason during a grading period will receive bonus point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asses can only be used during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last 5 minutes of clas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Gothic"/>
              </a:rPr>
              <a:t>Absences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t is very important that you attend class dail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f an absence is unexcused, you will receive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zero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for all daily work that da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f an absence is excused, you will be excused from daily grades for the da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Gothic"/>
              </a:rPr>
              <a:t>General behavior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Raise your hand &amp; wait to be called on before speaking or getting out of your seat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Hold all trash at your desk until class is over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e bell does not dismiss you, I do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ait until my signal to pack up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No gum, candy, food, drinks, etc. without permission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No excuses.  Take responsibility for your action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e on tim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e prepare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e respectful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assroom Expectation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Reminders!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dd these to your paper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Never walk behind the teacher’s desk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Bring a jacket!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eriously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. I cannot adjust the temperature to everyone’s individual needs.;-) I am sure you understan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lways keep the door closed during class. Students are not allowed to open the classroom door for safety. The teacher will open the door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 will NOT spend class time asking you daily to take something off your head or put your phone away. These actions will warrant disciplin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Gothic"/>
              </a:rPr>
              <a:t>Beginning class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nter the room silently &amp; go directly to your assigned seat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harpen pencils before the bell ring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egin the bellringer &amp; wait quietl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Gothic"/>
              </a:rPr>
              <a:t>Bellringers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ecord the date, question, answer choices, &amp; correct answer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re will be a bellringer test every 15 bellringer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Gothic"/>
              </a:rPr>
              <a:t>Tardies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f you are not inside the room when the tardy bell rings, you are tardy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ach tardy will be documented. Tardies are referred to the office for the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,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, &amp; subsequent offense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t is very important that you are on time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nd already in your seat working when the bell rings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Gothic"/>
              </a:rPr>
              <a:t>Manager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s position rotates every wee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sponsibilities include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assing back paper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unning errand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Gothic"/>
              </a:rPr>
              <a:t>Turning in papers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apers must be labeled in the upper right hand corner (first and last name, date, and block)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lways pass your papers i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silently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to the front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tudents in the front of each row should turn all papers the correct way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e teacher or the manager will deposit papers in the “in” basket for each perio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Gothic"/>
              </a:rPr>
              <a:t>Getting papers back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raded papers will be placed in the “out” basket for each perio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manager will pass them back dail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f you are absent, your papers will be left in the basket until you return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Gothic"/>
              </a:rPr>
              <a:t>Notebooks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You need a one-inch, three ring binder with loose-leaf paper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 table of contents will be recorded &amp; displayed in the classroom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ach assignment in your notebook will have a number &amp; be recorded on the table of contents  in the classroom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 notebook quiz will be given once a grading period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Gothic"/>
              </a:rPr>
              <a:t>Grade sheet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t is your responsibility to utilize your grade sheet.  With so many students, I will not be able to check your grade for you whenever you are curious about it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23:58:46Z</dcterms:created>
  <dc:creator>rspencer</dc:creator>
  <dc:description/>
  <cp:keywords/>
  <dc:language>en-US</dc:language>
  <cp:lastModifiedBy>rspencer</cp:lastModifiedBy>
  <dcterms:modified xsi:type="dcterms:W3CDTF">2011-01-18T20:20:19Z</dcterms:modified>
  <cp:revision>1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33</vt:lpwstr>
  </property>
</Properties>
</file>